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F29446-EE27-4553-AE61-B46EC56F03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5DDA59-3636-4329-9C22-6DC9D4D278AD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54BEED-24A6-4943-97F7-602CCA44C3C0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93396E-93D6-41D4-8161-2BFD0AF95C5F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95C217-5599-4BFB-8949-92EFE2745FDF}" type="slidenum">
              <a:rPr b="0" lang="en-GB" sz="1200" spc="-1" strike="noStrike">
                <a:solidFill>
                  <a:srgbClr val="4d4f53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1180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70320" y="20934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5364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1180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70320" y="4195800"/>
            <a:ext cx="243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53640" y="563400"/>
            <a:ext cx="75661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0840" y="41958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0840" y="2093400"/>
            <a:ext cx="369216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3640" y="4195800"/>
            <a:ext cx="7566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8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2"/>
          <a:stretch/>
        </p:blipFill>
        <p:spPr>
          <a:xfrm>
            <a:off x="173160" y="6165720"/>
            <a:ext cx="1374480" cy="560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6992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4920" y="563400"/>
            <a:ext cx="7854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64920" y="2093400"/>
            <a:ext cx="78548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6" descr=""/>
          <p:cNvPicPr/>
          <p:nvPr/>
        </p:nvPicPr>
        <p:blipFill>
          <a:blip r:embed="rId2"/>
          <a:stretch/>
        </p:blipFill>
        <p:spPr>
          <a:xfrm>
            <a:off x="-1440" y="-1440"/>
            <a:ext cx="9148680" cy="6860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3"/>
          <a:stretch/>
        </p:blipFill>
        <p:spPr>
          <a:xfrm>
            <a:off x="244440" y="264960"/>
            <a:ext cx="2162160" cy="881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69923a"/>
          </a:solidFill>
          <a:ln w="9360">
            <a:solidFill>
              <a:srgbClr val="4d4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22" name="AutoShape 8"/>
          <p:cNvSpPr/>
          <p:nvPr/>
        </p:nvSpPr>
        <p:spPr>
          <a:xfrm rot="10800000">
            <a:off x="8423280" y="1341000"/>
            <a:ext cx="720720" cy="863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f53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244440" y="264960"/>
            <a:ext cx="2162160" cy="881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4920" y="563400"/>
            <a:ext cx="7854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4920" y="2093400"/>
            <a:ext cx="78548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08000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08000"/>
              </a:lnSpc>
              <a:buClr>
                <a:srgbClr val="4d4f5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057040"/>
            <a:ext cx="5811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923a"/>
                </a:solidFill>
                <a:latin typeface="Arial"/>
              </a:rPr>
              <a:t>Grammar and Meaning: Clause Complex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65280" y="5029200"/>
            <a:ext cx="30686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923a"/>
                </a:solidFill>
                <a:latin typeface="Arial"/>
              </a:rPr>
              <a:t>Robert F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verview of Clause Compl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-ordinated claus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al statu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aratactic relation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-ordinated claus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c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ypotactic relation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.B. *Embedded (rank shifted) clauses not considered a clause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ordinated Clauses (Paratacti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53640" y="1447920"/>
            <a:ext cx="75661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uses of equal status are often joined by conj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ANBOY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FOR, AND, NOR, BUT, OR, YET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(additive: addition, time sequence, logical sequenc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lov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want to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 (disjunctive: alter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re you going ou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re you staying h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(adversative: contrast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lik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do not love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(consequential, cause and 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’ve started, so I’ll fin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ordinated Clau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53640" y="1600200"/>
            <a:ext cx="756612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lause can be dependent on ano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nant clause (alpha)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t clause (beta) 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he eats cak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til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he feels sic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ordinated Clauses (Hypotacti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3640" y="1447920"/>
            <a:ext cx="75661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pendent Clauses are often joined by conj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after, although, if, unless, so that, ther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cannot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am already marri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am already marri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 cannot marry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mers seemed longe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s a ch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s a child, summers seemed lon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pendent Clause versus Rank-shif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 A non-defining relative clause is considered depend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a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as broke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cost him 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he ca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him nothing,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hi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 broke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 paid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noth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the car,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whic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as a good pr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Whereas, a defining relative clause is considered rank shifted and not part of a clause comple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e car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that was brok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him no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ject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he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modifi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  Predic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rok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 cost him nothing. The other one cost him a lo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3640" y="563400"/>
            <a:ext cx="756612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953640" y="2093400"/>
            <a:ext cx="756612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or, T. and Bloor, M. (2004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Functional Analysis of English: A Hallidayan Approa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d) London: Edward Arn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LIDAY, M.A.K. (1985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 Introduction to Functional Gramm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London: Edward Arn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20:48:00Z</dcterms:created>
  <dc:creator>David Wilson</dc:creator>
  <dc:description/>
  <dc:language>en-US</dc:language>
  <cp:lastModifiedBy>fox rob</cp:lastModifiedBy>
  <dcterms:modified xsi:type="dcterms:W3CDTF">2009-02-26T02:00:33Z</dcterms:modified>
  <cp:revision>29</cp:revision>
  <dc:subject/>
  <dc:title>PowerPoint Presentation</dc:title>
</cp:coreProperties>
</file>